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D404D-9018-40EF-89C4-7173A577F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7FDB8-4701-4765-A076-0BE1D29A6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628F3-986F-423E-81A4-8356E2DF4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C3109-160B-489E-A1C9-B716B9CE9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6BFA3-0A38-4C72-A15E-53A6C7101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BE35A-4921-4553-ACE4-7CC78CB6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47305-B461-4545-A399-203A9888E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92A20-C88F-46F9-AD4A-5304643E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B9022-C8F9-4B78-99CF-1F94AF736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DA520-279B-48CE-8A99-A2EEAC529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37E0E-4419-428C-BA2F-57CD3DA88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1DC6F-4A2D-4348-8E39-1A2C9F8E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2BED6-04A3-4B10-B744-C856F9115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BD7B-0AC3-4A99-94E7-D0AE288B8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F3C6E-E647-48CE-8D0A-0B3622B2B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33802-01D5-458E-8A9F-529D4456A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EF5C3-5039-41F8-B4C8-45169E0E1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469C7-0F0D-41D8-A091-C4F78578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1839-D711-4716-85DD-00306498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B8533-2EA3-494C-8BBE-D09CF29C7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6F297-67F8-403D-9714-33835DB48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0D33-736C-499F-9E16-DE6B45E9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BD00-2AA4-4530-973B-D247B94C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30F3-E6BD-4B93-822D-976F92746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1148-CA6E-4D07-AB90-3A623F706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9FF4-7305-42E2-A9A8-19B001D4D4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9.xml"/><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Recovery%20Revision%20Questions%20ANSWERS.doc"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764640"/>
            <a:ext cx="7989840" cy="245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ffffff"/>
                </a:solidFill>
                <a:latin typeface="Arial"/>
              </a:rPr>
              <a:t>FATIGUE </a:t>
            </a:r>
            <a:br>
              <a:rPr sz="4600"/>
            </a:br>
            <a:r>
              <a:rPr b="0" lang="en-AU" sz="4600" spc="-1" strike="noStrike">
                <a:solidFill>
                  <a:srgbClr val="ffffff"/>
                </a:solidFill>
                <a:latin typeface="Arial"/>
              </a:rPr>
              <a:t>AND </a:t>
            </a:r>
            <a:br>
              <a:rPr sz="4600"/>
            </a:br>
            <a:r>
              <a:rPr b="0" lang="en-AU" sz="4600" spc="-1" strike="noStrike">
                <a:solidFill>
                  <a:srgbClr val="ffffff"/>
                </a:solidFill>
                <a:latin typeface="Arial"/>
              </a:rPr>
              <a:t>RECOVERY</a:t>
            </a:r>
            <a:endParaRPr b="0" lang="en-US" sz="4600" spc="-1" strike="noStrike">
              <a:solidFill>
                <a:srgbClr val="ffffff"/>
              </a:solidFill>
              <a:latin typeface="Arial"/>
            </a:endParaRPr>
          </a:p>
        </p:txBody>
      </p:sp>
      <p:pic>
        <p:nvPicPr>
          <p:cNvPr id="92" name="" descr=""/>
          <p:cNvPicPr/>
          <p:nvPr/>
        </p:nvPicPr>
        <p:blipFill>
          <a:blip r:embed="rId1"/>
          <a:stretch/>
        </p:blipFill>
        <p:spPr>
          <a:xfrm>
            <a:off x="2627280" y="3068640"/>
            <a:ext cx="4376880" cy="347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covery</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pter 12 in Nelson, p. 285.</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ring recovery the body overcompensates for the stress placed on it and adaptations resul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principle of recovery stat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in order to maximise performance and fitness benefits, an athlete must recover adequately from one training stimulus before the next stimulus is introduced” (Nelson, 200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covery</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l athletes need different recovery strategi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termined by: type of training undertaken; intensity and du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4716360" y="37162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covery Strategie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part of training session: </a:t>
            </a:r>
            <a:r>
              <a:rPr b="0" lang="en-AU" sz="2400" spc="-1" strike="noStrike" u="sng">
                <a:solidFill>
                  <a:srgbClr val="996666"/>
                </a:solidFill>
                <a:uFillTx/>
                <a:latin typeface="Arial"/>
                <a:hlinkClick r:id="rId1" action="ppaction://hlinksldjump"/>
              </a:rPr>
              <a:t>passive and/or active recovery and stretch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996666"/>
                </a:solidFill>
                <a:uFillTx/>
                <a:latin typeface="Arial"/>
                <a:hlinkClick r:id="rId2" action="ppaction://hlinksldjump"/>
              </a:rPr>
              <a:t>Replenishment of fuels (carbohydr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plenishment of fluids + electroly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996666"/>
                </a:solidFill>
                <a:uFillTx/>
                <a:latin typeface="Arial"/>
                <a:hlinkClick r:id="rId3" action="ppaction://hlinksldjump"/>
              </a:rPr>
              <a:t>Hydrotherapy</a:t>
            </a:r>
            <a:r>
              <a:rPr b="0" lang="en-AU" sz="2400" spc="-1" strike="noStrike">
                <a:solidFill>
                  <a:srgbClr val="000000"/>
                </a:solidFill>
                <a:latin typeface="Arial"/>
              </a:rPr>
              <a:t>: cryotherapy, ice baths, pools session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996666"/>
                </a:solidFill>
                <a:uFillTx/>
                <a:latin typeface="Arial"/>
                <a:hlinkClick r:id="rId4" action="ppaction://hlinksldjump"/>
              </a:rPr>
              <a:t>Massag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yperbaric Chamber- 100% pure O2, more to fatigued muscles to increase recovery ra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sychological Techniques: eg. </a:t>
            </a:r>
            <a:r>
              <a:rPr b="0" lang="en-AU" sz="2400" spc="-1" strike="noStrike" u="sng">
                <a:solidFill>
                  <a:srgbClr val="996666"/>
                </a:solidFill>
                <a:uFillTx/>
                <a:latin typeface="Arial"/>
                <a:hlinkClick r:id="rId5" action="ppaction://hlinksldjump"/>
              </a:rPr>
              <a:t>Progressive Muscle Relaxation (PMR)</a:t>
            </a:r>
            <a:r>
              <a:rPr b="0" lang="en-AU" sz="2400" spc="-1" strike="noStrike">
                <a:solidFill>
                  <a:srgbClr val="000000"/>
                </a:solidFill>
                <a:latin typeface="Arial"/>
              </a:rPr>
              <a:t>, </a:t>
            </a:r>
            <a:r>
              <a:rPr b="0" lang="en-AU" sz="2400" spc="-1" strike="noStrike" u="sng">
                <a:solidFill>
                  <a:srgbClr val="996666"/>
                </a:solidFill>
                <a:uFillTx/>
                <a:latin typeface="Arial"/>
                <a:hlinkClick r:id="rId6" action="ppaction://hlinksldjump"/>
              </a:rPr>
              <a:t>Meditation, </a:t>
            </a:r>
            <a:r>
              <a:rPr b="0" lang="en-AU" sz="2400" spc="-1" strike="noStrike">
                <a:solidFill>
                  <a:srgbClr val="000000"/>
                </a:solidFill>
                <a:latin typeface="Arial"/>
              </a:rPr>
              <a:t>breathing techniques, mental imag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Cool Dow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ive rest- replenishes CP stores most rapidl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tching- to prevent DOMS, PNF and static stretching as part of cool down whilst muscles are war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tive recovery- removes lactate. Min. 5-1- mins low intensity exercise (&lt;70%hr max) to maintain high O2 levels required to breakdown lactate. Prevents venous poo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Hydrotherapy</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t-Cold Showers- vasoconstriction (cold) and vasodilation (hot) causes a shunting effect in the blood vessels which speeds up removal of metabolit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ol sessions: usually next day as recovery session due to reduced stress of weight bearing on joint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yotherapy- immersion in cold water such as ice bath. Reduces swelling caused by soft tissue damage. Eg. High collision sports and where repetitive action causes muscle micro traum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Massage</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imulates increased blood flow which:</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reases O2 delivery to muscles, increases removal of metabilit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laxes muscles and reduces muscle tightness improving joint movem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reaks down scar tissue assisting with muscle repai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lieves sw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Progressive Muscle Relaxation</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nsing and relaxing muscles enabling athlete to understand the difference between tensing and relaxing musc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isolate one muscle group, create tension for 8-10 seconds then let the muscle relax and the tension g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velops skills for releasing tension, resulting in decreased muscle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Meditation</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laxing by controlling the CNS and reducing the number of cues to the brai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stimulation results in lower blood pressure and HR, slower breathing and relaxed mus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5076720" y="4076640"/>
            <a:ext cx="2552760" cy="16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Other: Compression Clothing</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laimed to accelerate recovery b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s venous retur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duces exercise induced muscle damag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elerates recovery process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oves lactic acid faster</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s muscle oxygenatio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roves body temperatur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plenishment of Fuels</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mediately after exerci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plenish CHO stores by consuming 5-100g high GI foods within first 15 mins of finishing exercise. Eg. Jelly beans, crumpets with honey, jam sandwich.</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ume CHO and protein together (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Key Skills and Knowledge</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completion of this topic, students should have knowledge of passive and active recovery methods to assist in returning the body to pre-exercise level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completion of this topic, students should be able to:</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plain the role the energy systems play in enabling activities to occur as well as their contribution to active and passive recovery.</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plain the multi-factorial mechanisms associated with fatigue during physical activity and sporting events results from the use of the three energy systems under varying conditions.</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are and contrast suitable recovery strategies used to counteract fatigue and promote optimal performance levels. (VCE Study Design,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Glycogen Replenishment</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ver next 2 hours athlete should consume 25-50g CHO every 15 mins (this maintains high insulin leve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fter 2 hours CHO consumption should continue at a rate of 50g every 2 hours for 24 hou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can take 24-48 hours to fully replenish CH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Glycogen Levels</a:t>
            </a:r>
            <a:endParaRPr b="0" lang="en-US" sz="4200" spc="-1" strike="noStrike">
              <a:solidFill>
                <a:srgbClr val="ffffff"/>
              </a:solidFill>
              <a:latin typeface="Arial"/>
            </a:endParaRPr>
          </a:p>
        </p:txBody>
      </p:sp>
      <p:graphicFrame>
        <p:nvGraphicFramePr>
          <p:cNvPr id="137" name=""/>
          <p:cNvGraphicFramePr/>
          <p:nvPr/>
        </p:nvGraphicFramePr>
        <p:xfrm>
          <a:off x="457200" y="1600200"/>
          <a:ext cx="8229600" cy="5046840"/>
        </p:xfrm>
        <a:graphic>
          <a:graphicData uri="http://schemas.openxmlformats.org/drawingml/2006/table">
            <a:tbl>
              <a:tblPr/>
              <a:tblGrid>
                <a:gridCol w="4114800"/>
                <a:gridCol w="4114800"/>
              </a:tblGrid>
              <a:tr h="101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ost event glycogen intake (High G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Glycogen returns to pre-exercise leve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9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ithin 1 hou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5% restored in next 5 hour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0% restored within 24 hou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2 hou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0% restored 24-48 hou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 hou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p to 5 day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ole of Protein</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tein is broken down following intense exercis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addition of protein to CHO amplifies the insulin response and promotes increased glucose delivery to the depleted cel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sulin stimulates protein synthesis and helps reduce protein breakdown which assists in the growth and repair of muscle t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Hydration</a:t>
            </a:r>
            <a:endParaRPr b="0" lang="en-US" sz="4200" spc="-1" strike="noStrike">
              <a:solidFill>
                <a:srgbClr val="ffffff"/>
              </a:solidFill>
              <a:latin typeface="Arial"/>
            </a:endParaRPr>
          </a:p>
        </p:txBody>
      </p:sp>
      <p:sp>
        <p:nvSpPr>
          <p:cNvPr id="141" name="PlaceHolder 2"/>
          <p:cNvSpPr>
            <a:spLocks noGrp="1"/>
          </p:cNvSpPr>
          <p:nvPr>
            <p:ph/>
          </p:nvPr>
        </p:nvSpPr>
        <p:spPr>
          <a:xfrm>
            <a:off x="609480" y="1600200"/>
            <a:ext cx="7925040" cy="40370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ssing fluid requirements:</a:t>
            </a:r>
            <a:endParaRPr b="0" lang="en-US" sz="2400" spc="-1" strike="noStrike">
              <a:solidFill>
                <a:srgbClr val="000000"/>
              </a:solidFill>
              <a:latin typeface="Arial"/>
            </a:endParaRPr>
          </a:p>
          <a:p>
            <a:pPr marL="339480" indent="-3394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Weigh yourself before and after training and competition.</a:t>
            </a:r>
            <a:endParaRPr b="0" lang="en-US" sz="2400" spc="-1" strike="noStrike">
              <a:solidFill>
                <a:srgbClr val="000000"/>
              </a:solidFill>
              <a:latin typeface="Arial"/>
            </a:endParaRPr>
          </a:p>
          <a:p>
            <a:pPr marL="339480" indent="-3394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One kg of weight lost = 1 litre of fluid lost = 1-1.5 litres of fluid required. Aim to drink similar amount of fluid in future training and competition to prevent dehydration.</a:t>
            </a:r>
            <a:endParaRPr b="0" lang="en-US" sz="2400" spc="-1" strike="noStrike">
              <a:solidFill>
                <a:srgbClr val="000000"/>
              </a:solidFill>
              <a:latin typeface="Arial"/>
            </a:endParaRPr>
          </a:p>
          <a:p>
            <a:pPr marL="339480" indent="-3394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ydration during events: 250ml isotonic sports drink every 15 min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Isotonic- similar to blood composi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ypertonic- &gt; sugar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ypotonic- &lt; sugars.</a:t>
            </a:r>
            <a:endParaRPr b="0" lang="en-US" sz="2400" spc="-1" strike="noStrike">
              <a:solidFill>
                <a:srgbClr val="000000"/>
              </a:solidFill>
              <a:latin typeface="Arial"/>
            </a:endParaRPr>
          </a:p>
        </p:txBody>
      </p:sp>
      <p:pic>
        <p:nvPicPr>
          <p:cNvPr id="142" name="" descr=""/>
          <p:cNvPicPr/>
          <p:nvPr/>
        </p:nvPicPr>
        <p:blipFill>
          <a:blip r:embed="rId1"/>
          <a:stretch/>
        </p:blipFill>
        <p:spPr>
          <a:xfrm>
            <a:off x="7093080" y="3933720"/>
            <a:ext cx="1850760" cy="278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Sports Drinks</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ain CHO and electrolytes and flavouring making it easier to drink.</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ain sodium which aids in retention of fluid without stopping thirst mechanism.</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id in replenishment of glycogen. Consume 500-1000ml per hour of isotonic drinks in en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re emptied from stomach faster than water (if CHO content of 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Dehydration</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ccurs when fluid loss exceeds fluid intake.</a:t>
            </a:r>
            <a:endParaRPr b="0" lang="en-US" sz="2400" spc="-1" strike="noStrike">
              <a:solidFill>
                <a:srgbClr val="000000"/>
              </a:solidFill>
              <a:latin typeface="Arial"/>
            </a:endParaRPr>
          </a:p>
          <a:p>
            <a:pPr marL="339480" indent="-3394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ffects includ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Mental meltdown, Decreased reaction times, concentration and decision ma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Elevated body temperature leads to increase blood re-distributed to the skin in an effort to cool dow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ecreased blood to muscles and decreased O2 available and increased reliance on LA system and H+ accumulat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Blood thickens- harder to pump, less blood delivered to the muscle and decreased amount of O2 available for aerobic glycolysis and to oxidise 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vision Questions</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fter an intense game of netball, would a passive or active recovery be required and why?</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other non-dietary strategy could the netball player use as part of her recovery?</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football player received some heavy knocks during the game. What type of recovery strategy may be useful?</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Tour de France cyclist has completed a 180km stage ride. What is the first thing he should do to speed his recover?</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me 3 recovery strategies that can decrease venous pooling and assist venous return.</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dietary strategy is to ingest CHO protein in a 4: 1 ratio. How does this improve recovery?</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pasta or jelly beans better for recove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996666"/>
                </a:solidFill>
                <a:uFillTx/>
                <a:latin typeface="Arial"/>
                <a:hlinkClick r:id="rId1"/>
              </a:rPr>
              <a:t>ANSWER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ferences</a:t>
            </a: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lpeli, R. , Horton, M., Davey, G., &amp; Telford, A. (2008). Nelson Physical Education VCE Units 3 &amp; 4 (4</a:t>
            </a:r>
            <a:r>
              <a:rPr b="0" lang="en-AU" sz="3200" spc="-1" strike="noStrike" baseline="30000">
                <a:solidFill>
                  <a:srgbClr val="000000"/>
                </a:solidFill>
                <a:latin typeface="Arial"/>
              </a:rPr>
              <a:t>th</a:t>
            </a:r>
            <a:r>
              <a:rPr b="0" lang="en-AU" sz="3200" spc="-1" strike="noStrike">
                <a:solidFill>
                  <a:srgbClr val="000000"/>
                </a:solidFill>
                <a:latin typeface="Arial"/>
              </a:rPr>
              <a:t> ed). South Melbourne; Ceng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Fatigue</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pter 6: Nelson textbook.</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set and rate of fatigue varies depending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ype of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Muscle fibres being u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ypes of muscle contr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tensity and duration of activity (faster onset with high intens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Fitness level.</a:t>
            </a:r>
            <a:endParaRPr b="0" lang="en-US" sz="2800" spc="-1" strike="noStrike">
              <a:solidFill>
                <a:srgbClr val="000000"/>
              </a:solidFill>
              <a:latin typeface="Arial"/>
            </a:endParaRPr>
          </a:p>
        </p:txBody>
      </p:sp>
      <p:pic>
        <p:nvPicPr>
          <p:cNvPr id="97" name="" descr=""/>
          <p:cNvPicPr/>
          <p:nvPr/>
        </p:nvPicPr>
        <p:blipFill>
          <a:blip r:embed="rId1"/>
          <a:stretch/>
        </p:blipFill>
        <p:spPr>
          <a:xfrm>
            <a:off x="5435640" y="4941720"/>
            <a:ext cx="260352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Fatigue</a:t>
            </a: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cal fatigue- localised, related to a specific activity, eg. H++ accumulation, soreness from lunges (DOM’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fatigue- Physical and mental. Related to the whole training session; ie. Drained feeli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ng-term (chronic) fatigue- related to physiological and psychological stress caused by exhaustion and overtraining. Tired and will notice</a:t>
            </a:r>
            <a:r>
              <a:rPr b="0" lang="en-US" sz="2800" spc="-1" strike="noStrike">
                <a:solidFill>
                  <a:srgbClr val="000000"/>
                </a:solidFill>
                <a:latin typeface="Century Gothic"/>
              </a:rPr>
              <a:t> </a:t>
            </a:r>
            <a:r>
              <a:rPr b="0" lang="en-US" sz="2800" spc="-1" strike="noStrike">
                <a:solidFill>
                  <a:srgbClr val="000000"/>
                </a:solidFill>
                <a:latin typeface="Arial"/>
              </a:rPr>
              <a:t>a deterioration in perform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Causes of Fatigue</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single process is responsibl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e to changes in the internal conditions within the muscle such a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pletion of fuels (ie. Glycogen and CP).</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pletion of high energy P compound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d body temperatur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hydr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nges in blood flow distribu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tered level of metabolic by-products such as AD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el Depletion</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Intensity Short Duration activities such as pole vault, rely on PC to fuel the ATP PC system.  When PC stores deplete (10 seconds) the LA energy system takes over.  This ES is less powerful.</a:t>
            </a:r>
            <a:r>
              <a:rPr b="0" lang="en-US" sz="2800" spc="-1" strike="noStrike">
                <a:solidFill>
                  <a:srgbClr val="000000"/>
                </a:solidFill>
                <a:latin typeface="Century Gothic"/>
              </a:rPr>
              <a:t>  </a:t>
            </a:r>
            <a:endParaRPr b="0" lang="en-US" sz="2800" spc="-1" strike="noStrike">
              <a:solidFill>
                <a:srgbClr val="000000"/>
              </a:solidFill>
              <a:latin typeface="Arial"/>
            </a:endParaRPr>
          </a:p>
        </p:txBody>
      </p:sp>
      <p:sp>
        <p:nvSpPr>
          <p:cNvPr id="104" name="PlaceHolder 3"/>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C deple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inorganic phosph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crease intensity when PC depleted &gt;95% M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PC Depletion</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pletion of energy stores is a primary factor with fatigu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ce ATP-PC system is exhausted, body uses glycogen as an energy source (stored in musc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oxygen available to working mus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Restoration Rates</a:t>
            </a:r>
            <a:endParaRPr b="0" lang="en-US" sz="4200" spc="-1" strike="noStrike">
              <a:solidFill>
                <a:srgbClr val="ffffff"/>
              </a:solidFill>
              <a:latin typeface="Arial"/>
            </a:endParaRPr>
          </a:p>
        </p:txBody>
      </p:sp>
      <p:graphicFrame>
        <p:nvGraphicFramePr>
          <p:cNvPr id="108" name=""/>
          <p:cNvGraphicFramePr/>
          <p:nvPr/>
        </p:nvGraphicFramePr>
        <p:xfrm>
          <a:off x="457200" y="1413000"/>
          <a:ext cx="8229600" cy="4905360"/>
        </p:xfrm>
        <a:graphic>
          <a:graphicData uri="http://schemas.openxmlformats.org/drawingml/2006/table">
            <a:tbl>
              <a:tblPr/>
              <a:tblGrid>
                <a:gridCol w="4114800"/>
                <a:gridCol w="41148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 Time</a:t>
                      </a:r>
                      <a:r>
                        <a:rPr b="0" lang="en-US" sz="2800" spc="-1" strike="noStrike">
                          <a:solidFill>
                            <a:srgbClr val="000000"/>
                          </a:solidFill>
                          <a:latin typeface="Arial"/>
                        </a:rPr>
                        <a:t> (secon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cle Phosphagen restor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inut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240"/>
            <a:ext cx="8015400" cy="32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fffff"/>
                </a:solidFill>
                <a:uFillTx/>
                <a:latin typeface="Century Gothic"/>
              </a:rPr>
              <a:t>AEROBIC VS ANAEROBIC GLYCOLYSIS</a:t>
            </a:r>
            <a:endParaRPr b="0" lang="en-US" sz="2900" spc="-1" strike="noStrike">
              <a:solidFill>
                <a:srgbClr val="ffffff"/>
              </a:solidFill>
              <a:latin typeface="Arial"/>
            </a:endParaRPr>
          </a:p>
        </p:txBody>
      </p:sp>
      <p:sp>
        <p:nvSpPr>
          <p:cNvPr id="110" name="PlaceHolder 2"/>
          <p:cNvSpPr>
            <a:spLocks noGrp="1"/>
          </p:cNvSpPr>
          <p:nvPr>
            <p:ph/>
          </p:nvPr>
        </p:nvSpPr>
        <p:spPr>
          <a:xfrm>
            <a:off x="395280" y="1483920"/>
            <a:ext cx="3889440" cy="4969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EROBIC GLYCOLYSI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YCO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UCOS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YRUVIC ACI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SUFFICIENT OXY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2 + H20 + ATP</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284360" y="1484280"/>
            <a:ext cx="4103640" cy="47512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AEROBIC GLYCOLYSI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YCO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UCOS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YRUVIC ACI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INSUFFICIENT OXY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ACID + H IONS +ATP</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40:28Z</dcterms:created>
  <dc:creator>Russell Simpson</dc:creator>
  <dc:description/>
  <dc:language>en-US</dc:language>
  <cp:lastModifiedBy>Russell Simpson</cp:lastModifiedBy>
  <dcterms:modified xsi:type="dcterms:W3CDTF">2010-10-10T22:50:29Z</dcterms:modified>
  <cp:revision>11</cp:revision>
  <dc:subject/>
  <dc:title>FATIGUE  AND  RECOVERY</dc:title>
</cp:coreProperties>
</file>